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43219"/>
        <c:axId val="60565811"/>
      </c:barChart>
      <c:catAx>
        <c:axId val="82043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65811"/>
        <c:crosses val="autoZero"/>
        <c:auto val="1"/>
        <c:lblAlgn val="ctr"/>
        <c:lblOffset val="100"/>
        <c:noMultiLvlLbl val="0"/>
      </c:catAx>
      <c:valAx>
        <c:axId val="60565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3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348-EC76-458C-8961-0961CD05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857-6AA5-4B57-BF9B-00EF1305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89A-E63D-415B-94AD-2A2D1E89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11C-E7E0-4424-8DB4-04A28C6E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0C-0FEA-463D-A036-73BF88B9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8D6-9959-4B9C-A27F-DF6BF402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032-4513-4F90-AFFC-F561D74A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D5B-1A34-4CB1-80B9-8700B8C5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025-8AB8-4A2A-B70F-66923ACF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E9C-A40F-4999-8E48-BCEB775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A51-5F6D-4B1C-B48E-0FC5B50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BF1-DE4F-443D-AA11-0CC4D945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732B5-5617-4CD0-B4CA-CB58278C0F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