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09270"/>
        <c:axId val="92983197"/>
      </c:barChart>
      <c:catAx>
        <c:axId val="81009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83197"/>
        <c:crosses val="autoZero"/>
        <c:auto val="1"/>
        <c:lblAlgn val="ctr"/>
        <c:lblOffset val="100"/>
        <c:noMultiLvlLbl val="0"/>
      </c:catAx>
      <c:valAx>
        <c:axId val="92983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09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262-6C41-4524-825C-3F108B2B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1B8-7FFA-4690-ADFA-E47674BE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3E9-B82E-410B-A733-0B715EB9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F04-3198-4577-8268-2056B0D6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5A5-C4D5-4B48-A525-F5747BD1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135-B466-4F4A-BAFB-843ABA7C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EFB-644A-45E7-B2A5-422AEF5A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F38-8542-461A-9387-FEC9EE7F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877-A092-4D59-9A46-75CB9185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908-E82B-4EE0-B0E1-3F04553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523-516B-407B-B100-869BF477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F46-E77C-43D7-8DCA-ADB2FC8C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627DD-4AAF-4CB3-9D11-36E2F57FAA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